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3B9-56BD-4367-ACD6-A7B415DC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E61-00BB-4E6A-B9B5-AC9CF537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864-9172-46B4-92CF-C137B1E7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81C-F914-40AA-9B8D-630BA58C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A16-CD94-491A-B0B2-27B1F73B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53A-7A98-4934-AF85-58FB2AD6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CDD-3494-4506-90B2-E43DCDB9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172-4443-4F3F-BA97-ECE9CC3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410-35A1-4A0A-A7A2-762E0ECD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50A-9E93-47D9-A8C3-10B1DCBA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14D-2479-43C0-8CA0-086335C4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DD5-ACCD-432F-94F2-242F85F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00F6-85DF-4E83-B6EB-6981BC0D6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3369617fAeoZnVnqp_ph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كل العالم    هللويا في بيت لحم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مذود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97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685800"/>
            <a:ext cx="2514600" cy="75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إفرحوا          هللويا وابتهج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تهللوا   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7:49:17Z</dcterms:created>
  <dc:creator>SUZANNE.MD</dc:creator>
  <dc:description/>
  <dc:language>en-US</dc:language>
  <cp:lastModifiedBy>USER</cp:lastModifiedBy>
  <dcterms:modified xsi:type="dcterms:W3CDTF">2002-12-31T13:46:49Z</dcterms:modified>
  <cp:revision>2</cp:revision>
  <dc:subject/>
  <dc:title>PowerPoint Presentation</dc:title>
</cp:coreProperties>
</file>